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24382413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9E37-8D4D-4CA3-A3C7-E87237C1E3BF}" type="slidenum"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y research group has been studying human behaviour in the virtual space for more than 10 years now and we have a pretty big finding for you, which directly touches on you all, whatever your speciality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E145-A202-4C35-9202-8EF58AF84A7F}" type="slidenum"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FCF5-ACF8-4A20-8C0A-872BD3871EF4}" type="slidenum"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BF99-AFCB-49B0-8030-9E81C473C350}" type="slidenum"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4BD3-A156-4773-8FC0-2077E3A5435E}" type="slidenum"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A9DE-FB33-45CC-BB40-0D5B24B45E4C}" type="slidenum"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rea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3200-C76C-488F-B2D7-F865450A9903}" type="slidenum"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ll the tail wag the dog. Also most websites yet ready to provide a decent interface for mob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7F9C-E43C-4F7F-A009-76B4DF993FD1}" type="slidenum"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523520" y="469440"/>
            <a:ext cx="21336120" cy="90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523520" y="8085960"/>
            <a:ext cx="213361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2456360" y="326340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52352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2456360" y="8085960"/>
            <a:ext cx="1041192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873720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5950880" y="326340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52352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873720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15950880" y="8085960"/>
            <a:ext cx="6869880" cy="440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spcBef>
                <a:spcPts val="6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14986080" y="11226960"/>
            <a:ext cx="0" cy="200016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392160" y="11937600"/>
            <a:ext cx="8305560" cy="723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 fontScale="16000"/>
          </a:bodyPr>
          <a:p>
            <a:pPr marL="547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999999"/>
              </a:solidFill>
              <a:latin typeface="Helvetica Neue"/>
            </a:endParaRPr>
          </a:p>
          <a:p>
            <a:pPr lvl="1" marL="54720" indent="-5472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999999"/>
              </a:solidFill>
              <a:latin typeface="Helvetica Neue"/>
            </a:endParaRPr>
          </a:p>
          <a:p>
            <a:pPr lvl="2" marL="54720" indent="-5472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999999"/>
              </a:solidFill>
              <a:latin typeface="Helvetica Neue"/>
            </a:endParaRPr>
          </a:p>
          <a:p>
            <a:pPr lvl="3" marL="54720" indent="-5472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999999"/>
              </a:solidFill>
              <a:latin typeface="Helvetica Neue"/>
            </a:endParaRPr>
          </a:p>
          <a:p>
            <a:pPr lvl="4" marL="54720" indent="-5472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999999"/>
              </a:solidFill>
              <a:latin typeface="Helvetica Neue"/>
            </a:endParaRPr>
          </a:p>
          <a:p>
            <a:pPr lvl="5" marL="54720" indent="-54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999999"/>
              </a:solidFill>
              <a:latin typeface="Helvetica Neue"/>
            </a:endParaRPr>
          </a:p>
          <a:p>
            <a:pPr lvl="6" marL="54720" indent="-54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10946880"/>
            <a:ext cx="13817520" cy="238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14541120" y="3263400"/>
            <a:ext cx="825516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39960" indent="-38124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57464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19708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0656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06560" indent="-380880">
              <a:spcBef>
                <a:spcPts val="6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06560" indent="-380880">
              <a:spcBef>
                <a:spcPts val="6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1574640" y="2768760"/>
            <a:ext cx="212220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1523520" y="1485720"/>
            <a:ext cx="21336120" cy="10731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-380880">
              <a:spcBef>
                <a:spcPts val="85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39960" indent="-381240">
              <a:spcBef>
                <a:spcPts val="85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574640" indent="-380880">
              <a:spcBef>
                <a:spcPts val="85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197080" indent="-380880">
              <a:spcBef>
                <a:spcPts val="85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06560" indent="-380880">
              <a:spcBef>
                <a:spcPts val="8501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06560" indent="-380880">
              <a:spcBef>
                <a:spcPts val="85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06560" indent="-380880">
              <a:spcBef>
                <a:spcPts val="85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672840" y="12395160"/>
            <a:ext cx="13868280" cy="1155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 fontScale="37000"/>
          </a:bodyPr>
          <a:p>
            <a:pPr marL="1267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1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2" marL="126720" indent="-12672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3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4" marL="126720" indent="-12672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5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6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426" name="Line 2"/>
          <p:cNvSpPr/>
          <p:nvPr/>
        </p:nvSpPr>
        <p:spPr>
          <a:xfrm flipH="1">
            <a:off x="8303760" y="762120"/>
            <a:ext cx="1800" cy="973296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4" name="Line 2"/>
          <p:cNvSpPr/>
          <p:nvPr/>
        </p:nvSpPr>
        <p:spPr>
          <a:xfrm>
            <a:off x="1574640" y="2768760"/>
            <a:ext cx="212220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1523880" y="7048440"/>
            <a:ext cx="9144000" cy="4470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343080" indent="-34308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343080" indent="-34308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343080" indent="-34308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343080" indent="-34308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2" name="Line 2"/>
          <p:cNvSpPr/>
          <p:nvPr/>
        </p:nvSpPr>
        <p:spPr>
          <a:xfrm>
            <a:off x="1574640" y="6680160"/>
            <a:ext cx="9042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1523880" y="1854000"/>
            <a:ext cx="9144000" cy="447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body"/>
          </p:nvPr>
        </p:nvSpPr>
        <p:spPr>
          <a:xfrm>
            <a:off x="1523520" y="7048440"/>
            <a:ext cx="21336120" cy="4470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343080" indent="-34308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343080" indent="-343080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343080" indent="-343080">
              <a:buClr>
                <a:srgbClr val="606060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343080" indent="-343080">
              <a:buClr>
                <a:srgbClr val="60606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1" name="Line 2"/>
          <p:cNvSpPr/>
          <p:nvPr/>
        </p:nvSpPr>
        <p:spPr>
          <a:xfrm>
            <a:off x="1574640" y="6680160"/>
            <a:ext cx="212220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1523520" y="1854000"/>
            <a:ext cx="21336120" cy="447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body"/>
          </p:nvPr>
        </p:nvSpPr>
        <p:spPr>
          <a:xfrm>
            <a:off x="672840" y="12395160"/>
            <a:ext cx="13868280" cy="1155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 fontScale="37000"/>
          </a:bodyPr>
          <a:p>
            <a:pPr marL="1267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1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2" marL="126720" indent="-12672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3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4" marL="126720" indent="-12672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5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6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80" name="Line 2"/>
          <p:cNvSpPr/>
          <p:nvPr/>
        </p:nvSpPr>
        <p:spPr>
          <a:xfrm>
            <a:off x="12179160" y="2311560"/>
            <a:ext cx="0" cy="624996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39960" indent="-38124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57464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19708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0656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06560" indent="-380880">
              <a:spcBef>
                <a:spcPts val="6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06560" indent="-380880">
              <a:spcBef>
                <a:spcPts val="6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Line 3"/>
          <p:cNvSpPr/>
          <p:nvPr/>
        </p:nvSpPr>
        <p:spPr>
          <a:xfrm>
            <a:off x="1574640" y="2768760"/>
            <a:ext cx="212220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672840" y="12395160"/>
            <a:ext cx="13868280" cy="1155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 fontScale="37000"/>
          </a:bodyPr>
          <a:p>
            <a:pPr marL="1267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1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2" marL="126720" indent="-12672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3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4" marL="126720" indent="-12672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5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6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9" name="Line 2"/>
          <p:cNvSpPr/>
          <p:nvPr/>
        </p:nvSpPr>
        <p:spPr>
          <a:xfrm flipH="1">
            <a:off x="12215880" y="787320"/>
            <a:ext cx="1440" cy="1112544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72840" y="12395160"/>
            <a:ext cx="13868280" cy="1155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 fontScale="37000"/>
          </a:bodyPr>
          <a:p>
            <a:pPr marL="1267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1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2" marL="126720" indent="-12672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3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4" marL="126720" indent="-12672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5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6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17" name="Line 2"/>
          <p:cNvSpPr/>
          <p:nvPr/>
        </p:nvSpPr>
        <p:spPr>
          <a:xfrm flipH="1">
            <a:off x="8291520" y="762120"/>
            <a:ext cx="1440" cy="97279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8" name="Line 3"/>
          <p:cNvSpPr/>
          <p:nvPr/>
        </p:nvSpPr>
        <p:spPr>
          <a:xfrm flipH="1">
            <a:off x="16114320" y="787320"/>
            <a:ext cx="1800" cy="972828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2840" y="12395160"/>
            <a:ext cx="13868280" cy="1155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 fontScale="37000"/>
          </a:bodyPr>
          <a:p>
            <a:pPr marL="1267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1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2" marL="126720" indent="-12672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3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4" marL="126720" indent="-12672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5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6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1523880" y="3263400"/>
            <a:ext cx="914400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39960" indent="-38124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57464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19708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0656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06560" indent="-380880">
              <a:spcBef>
                <a:spcPts val="6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06560" indent="-380880">
              <a:spcBef>
                <a:spcPts val="6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Line 2"/>
          <p:cNvSpPr/>
          <p:nvPr/>
        </p:nvSpPr>
        <p:spPr>
          <a:xfrm>
            <a:off x="1574640" y="2768760"/>
            <a:ext cx="90424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523880" y="469440"/>
            <a:ext cx="914400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72840" y="12395160"/>
            <a:ext cx="13868280" cy="1155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 fontScale="37000"/>
          </a:bodyPr>
          <a:p>
            <a:pPr marL="1267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1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2" marL="126720" indent="-12672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3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4" marL="126720" indent="-12672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5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6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2" name="Line 2"/>
          <p:cNvSpPr/>
          <p:nvPr/>
        </p:nvSpPr>
        <p:spPr>
          <a:xfrm flipH="1">
            <a:off x="12189960" y="762120"/>
            <a:ext cx="1800" cy="1112508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3" name="Line 3"/>
          <p:cNvSpPr/>
          <p:nvPr/>
        </p:nvSpPr>
        <p:spPr>
          <a:xfrm>
            <a:off x="12190320" y="6286680"/>
            <a:ext cx="1142064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72840" y="12395160"/>
            <a:ext cx="13868280" cy="1155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 fontScale="37000"/>
          </a:bodyPr>
          <a:p>
            <a:pPr marL="1267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1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2" marL="126720" indent="-12672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3" marL="126720" indent="-12672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4" marL="126720" indent="-12672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5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  <a:p>
            <a:pPr lvl="6" marL="126720" indent="-1267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71" name="Line 2"/>
          <p:cNvSpPr/>
          <p:nvPr/>
        </p:nvSpPr>
        <p:spPr>
          <a:xfrm flipH="1">
            <a:off x="17334000" y="812880"/>
            <a:ext cx="1440" cy="110743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2" name="Line 3"/>
          <p:cNvSpPr/>
          <p:nvPr/>
        </p:nvSpPr>
        <p:spPr>
          <a:xfrm>
            <a:off x="17335440" y="4419720"/>
            <a:ext cx="62866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17335440" y="8267760"/>
            <a:ext cx="628668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1523520" y="3263400"/>
            <a:ext cx="965196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1" marL="939960" indent="-38124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2" marL="157464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3" marL="219708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4" marL="2806560" indent="-380880">
              <a:spcBef>
                <a:spcPts val="61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5" marL="2806560" indent="-380880">
              <a:spcBef>
                <a:spcPts val="6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  <a:p>
            <a:pPr lvl="6" marL="2806560" indent="-380880">
              <a:spcBef>
                <a:spcPts val="6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2" name="Line 3"/>
          <p:cNvSpPr/>
          <p:nvPr/>
        </p:nvSpPr>
        <p:spPr>
          <a:xfrm>
            <a:off x="1574640" y="2768760"/>
            <a:ext cx="212220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1" descr=""/>
          <p:cNvPicPr/>
          <p:nvPr/>
        </p:nvPicPr>
        <p:blipFill>
          <a:blip r:embed="rId1"/>
          <a:srcRect l="403" t="20718" r="403" b="20778"/>
          <a:stretch/>
        </p:blipFill>
        <p:spPr>
          <a:xfrm>
            <a:off x="-241200" y="-52560"/>
            <a:ext cx="24625080" cy="1074744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10946880"/>
            <a:ext cx="13817520" cy="238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elvetica Neue"/>
              </a:rPr>
              <a:t>CAR PURCHASE COMPARI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5392160" y="11937600"/>
            <a:ext cx="8305560" cy="1397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text</a:t>
            </a:r>
            <a:endParaRPr b="0" lang="en-US" sz="2400" spc="-1" strike="noStrike">
              <a:solidFill>
                <a:srgbClr val="999999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text</a:t>
            </a:r>
            <a:endParaRPr b="0" lang="en-US" sz="24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-977760" y="10642680"/>
            <a:ext cx="25361640" cy="313668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5423040" y="11034720"/>
            <a:ext cx="1853568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ff0000"/>
                </a:solidFill>
                <a:latin typeface="Helvetica Neue"/>
              </a:rPr>
              <a:t>Hey, we don't read anymore! </a:t>
            </a:r>
            <a:endParaRPr b="0" lang="en-US" sz="88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Helvetica Neue"/>
              </a:rPr>
              <a:t>Professor David Nicholas, CIBER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elvetica Neue"/>
              </a:rPr>
              <a:t>CAR PURCHASE COMPARI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523520" y="3720600"/>
            <a:ext cx="9703080" cy="861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-34920" y="0"/>
            <a:ext cx="24699960" cy="294480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Helvetica Neue"/>
              </a:rPr>
              <a:t>Questions for you and the one-liner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1" name="Rectangle 4"/>
          <p:cNvSpPr/>
          <p:nvPr/>
        </p:nvSpPr>
        <p:spPr>
          <a:xfrm>
            <a:off x="1590840" y="876240"/>
            <a:ext cx="1318248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2" name="Rectangle 5"/>
          <p:cNvSpPr/>
          <p:nvPr/>
        </p:nvSpPr>
        <p:spPr>
          <a:xfrm>
            <a:off x="-977760" y="12928680"/>
            <a:ext cx="25399800" cy="85068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3" name="Rectangle 113"/>
          <p:cNvSpPr/>
          <p:nvPr/>
        </p:nvSpPr>
        <p:spPr>
          <a:xfrm>
            <a:off x="1523880" y="13150800"/>
            <a:ext cx="899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Gill Sans"/>
              </a:rPr>
              <a:t>Culture on the go 16 of 35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4" name="Rectangle 3"/>
          <p:cNvSpPr/>
          <p:nvPr/>
        </p:nvSpPr>
        <p:spPr>
          <a:xfrm>
            <a:off x="863640" y="4194000"/>
            <a:ext cx="16008480" cy="81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Neue"/>
              </a:rPr>
              <a:t>Should we worry about this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Neue"/>
              </a:rPr>
              <a:t>Does it constitute a dumbing down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Neue"/>
              </a:rPr>
              <a:t>If so can we ameliorate this form of behaviour and, if so, who and how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elvetica Neue"/>
              </a:rPr>
              <a:t>From a content providers perspective how best to profit from of behaviour?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Helvetica Neue"/>
              </a:rPr>
              <a:t>The digital transition has altered the way we behave and we are still to wake up to how fundamental that change is.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5" name="Rectangle 10"/>
          <p:cNvSpPr/>
          <p:nvPr/>
        </p:nvSpPr>
        <p:spPr>
          <a:xfrm>
            <a:off x="33480" y="-1723320"/>
            <a:ext cx="97920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</a:rPr>
              <a:t>  </a:t>
            </a:r>
            <a:r>
              <a:rPr b="0" lang="en-US" sz="19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19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a. 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06" name="Picture 11" descr="http://www.obesitycures.com/images/fastfoodnation.jpg"/>
          <p:cNvPicPr/>
          <p:nvPr/>
        </p:nvPicPr>
        <p:blipFill>
          <a:blip r:embed="rId1"/>
          <a:stretch/>
        </p:blipFill>
        <p:spPr>
          <a:xfrm>
            <a:off x="17160840" y="4481640"/>
            <a:ext cx="5688000" cy="784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elvetica Neue"/>
              </a:rPr>
              <a:t>CAR PURCHASE COMPARI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523520" y="3263400"/>
            <a:ext cx="21336120" cy="9232920"/>
          </a:xfrm>
          <a:prstGeom prst="rect">
            <a:avLst/>
          </a:prstGeom>
          <a:noFill/>
          <a:ln w="0">
            <a:noFill/>
          </a:ln>
        </p:spPr>
        <p:txBody>
          <a:bodyPr lIns="63360" rIns="212040" tIns="63360" bIns="63360" anchor="t">
            <a:normAutofit/>
          </a:bodyPr>
          <a:p>
            <a:pPr marL="380880" indent="-380880">
              <a:spcBef>
                <a:spcPts val="36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Talk based on a massive evidence-base of what people actually </a:t>
            </a:r>
            <a:r>
              <a:rPr b="0" i="1" lang="en-GB" sz="3800" spc="-1" strike="noStrike">
                <a:solidFill>
                  <a:srgbClr val="000000"/>
                </a:solidFill>
                <a:latin typeface="Helvetica Neue"/>
              </a:rPr>
              <a:t>do</a:t>
            </a: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 in the digital space and not what they </a:t>
            </a:r>
            <a:r>
              <a:rPr b="0" i="1" lang="en-GB" sz="3800" spc="-1" strike="noStrike">
                <a:solidFill>
                  <a:srgbClr val="000000"/>
                </a:solidFill>
                <a:latin typeface="Helvetica Neue"/>
              </a:rPr>
              <a:t>say </a:t>
            </a: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they did or </a:t>
            </a:r>
            <a:r>
              <a:rPr b="0" i="1" lang="en-GB" sz="3800" spc="-1" strike="noStrike">
                <a:solidFill>
                  <a:srgbClr val="000000"/>
                </a:solidFill>
                <a:latin typeface="Helvetica Neue"/>
              </a:rPr>
              <a:t>wished</a:t>
            </a: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  they did. The data can be trusted.</a:t>
            </a:r>
            <a:endParaRPr b="0" lang="en-US" sz="38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-380880">
              <a:spcBef>
                <a:spcPts val="36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Important because people have problems recalling what they did in the digital space</a:t>
            </a:r>
            <a:endParaRPr b="0" lang="en-US" sz="38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-380880">
              <a:spcBef>
                <a:spcPts val="36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Use millions of digital footprints instead. </a:t>
            </a:r>
            <a:endParaRPr b="0" lang="en-US" sz="38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-380880">
              <a:spcBef>
                <a:spcPts val="36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Massive activity in the virtual space, which masks the truth of what has happened as we all decamp to the virtual space</a:t>
            </a:r>
            <a:endParaRPr b="0" lang="en-US" sz="38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-380880">
              <a:spcBef>
                <a:spcPts val="36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We are told that the brain is rewiring fast as a consequence of the move</a:t>
            </a:r>
            <a:endParaRPr b="0" lang="en-US" sz="38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-380880">
              <a:spcBef>
                <a:spcPts val="36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Possibly the end of civilisation as we know it? </a:t>
            </a:r>
            <a:endParaRPr b="0" lang="en-US" sz="38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-380880">
              <a:spcBef>
                <a:spcPts val="36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What we seem to have done is given up reading (and all that means) for viewing (and all that means.</a:t>
            </a:r>
            <a:endParaRPr b="0" lang="en-US" sz="38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-34920" y="-77760"/>
            <a:ext cx="24699960" cy="294480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1590840" y="876240"/>
            <a:ext cx="899136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elvetica Neue Light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-977760" y="12928680"/>
            <a:ext cx="25399800" cy="85068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1523880" y="13150800"/>
            <a:ext cx="899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Gill Sans"/>
              </a:rPr>
              <a:t>Culture on the go 6 of 35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elvetica Neue"/>
              </a:rPr>
              <a:t>CAR PURCHASE COMPARI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523520" y="3720600"/>
            <a:ext cx="9703080" cy="861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-34920" y="-343080"/>
            <a:ext cx="24699960" cy="294516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1590840" y="876240"/>
            <a:ext cx="1318248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elvetica Neue"/>
              </a:rPr>
              <a:t>In information seeking terms we ‘bounce’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-977760" y="12928680"/>
            <a:ext cx="25399800" cy="85068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0" name="Rectangle 113"/>
          <p:cNvSpPr/>
          <p:nvPr/>
        </p:nvSpPr>
        <p:spPr>
          <a:xfrm>
            <a:off x="1523880" y="13150800"/>
            <a:ext cx="899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Gill Sans"/>
              </a:rPr>
              <a:t>Culture on the go 16 of 35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863640" y="3546360"/>
            <a:ext cx="16081200" cy="9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Most people view only 1-2 pages from thousands available; 3 is a lot 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Around 40% do not come back – we are promiscuous users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‘</a:t>
            </a: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One-shots’ abound (one visit, on page)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Bounce because of: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lvl="2" marL="14860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search engines (big lists) and links (enjoined to go elsewhere)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2" marL="14860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massive and changing choice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2" marL="14860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so much rubbish out there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2" marL="14860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‘</a:t>
            </a:r>
            <a:r>
              <a:rPr b="0" lang="en-GB" sz="36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acceptance of failure’ – result of pragmatism, lack of time &amp; overload 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2" marL="14860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poor retrieval skills (2.2 words per query and first page up on Google) 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2" marL="14860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leave memories in cyberspace, which adds to ‘churn’ rate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2" marL="14860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direct result of end-user checking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2" marL="1486080" indent="-57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multi-tasking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Rectangle 10"/>
          <p:cNvSpPr/>
          <p:nvPr/>
        </p:nvSpPr>
        <p:spPr>
          <a:xfrm>
            <a:off x="33480" y="-2774520"/>
            <a:ext cx="9792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</a:rPr>
              <a:t>  </a:t>
            </a:r>
            <a:r>
              <a:rPr b="0" lang="en-US" sz="19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19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643" name="Picture 4" descr="trampoline1"/>
          <p:cNvPicPr/>
          <p:nvPr/>
        </p:nvPicPr>
        <p:blipFill>
          <a:blip r:embed="rId1"/>
          <a:stretch/>
        </p:blipFill>
        <p:spPr>
          <a:xfrm>
            <a:off x="17737200" y="3546360"/>
            <a:ext cx="5783040" cy="835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elvetica Neue"/>
              </a:rPr>
              <a:t>CAR PURCHASE COMPARI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523520" y="3720600"/>
            <a:ext cx="9703080" cy="861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-34920" y="0"/>
            <a:ext cx="24699960" cy="294480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Helvetica Neue"/>
              </a:rPr>
              <a:t>The horizontal has replaced the vertical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1390680" y="876240"/>
            <a:ext cx="1318248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-977760" y="12928680"/>
            <a:ext cx="25399800" cy="85068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9" name="Rectangle 113"/>
          <p:cNvSpPr/>
          <p:nvPr/>
        </p:nvSpPr>
        <p:spPr>
          <a:xfrm>
            <a:off x="1523880" y="13150800"/>
            <a:ext cx="899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863640" y="3546360"/>
            <a:ext cx="15432120" cy="9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What we</a:t>
            </a: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 do is ‘skitter’ (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moving rapidly along a surface, with frequent light contacts or changes of direction</a:t>
            </a: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‘</a:t>
            </a: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Power browse’, drive-thru titles, headings, links &amp; summaries at a fast rate.  Charge for abstracts and give away PDFs!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Building digital motorways through and between content means movement itself pleasurable…might be something (more) interesting around the corner. Lots of things never connected before 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And then there is multi-tasking –  always more pleasurable to do several things at once rather than one thing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Don’t do ‘long’ anymore (more on this later)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 algn="ctr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1" name="Rectangle 10"/>
          <p:cNvSpPr/>
          <p:nvPr/>
        </p:nvSpPr>
        <p:spPr>
          <a:xfrm>
            <a:off x="33480" y="-1723320"/>
            <a:ext cx="97920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</a:rPr>
              <a:t>  </a:t>
            </a:r>
            <a:r>
              <a:rPr b="0" lang="en-US" sz="19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19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652" name="Picture 4" descr="power browser 3"/>
          <p:cNvPicPr/>
          <p:nvPr/>
        </p:nvPicPr>
        <p:blipFill>
          <a:blip r:embed="rId1"/>
          <a:stretch/>
        </p:blipFill>
        <p:spPr>
          <a:xfrm>
            <a:off x="16872120" y="3762360"/>
            <a:ext cx="7345080" cy="734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elvetica Neue"/>
              </a:rPr>
              <a:t>CAR PURCHASE COMPARI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523520" y="3720600"/>
            <a:ext cx="9703080" cy="861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-34920" y="0"/>
            <a:ext cx="24699960" cy="294480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Helvetica Neue"/>
              </a:rPr>
              <a:t>Welcome to the fast information society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1590840" y="876240"/>
            <a:ext cx="1318248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-977760" y="12928680"/>
            <a:ext cx="25399800" cy="85068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8" name="Rectangle 113"/>
          <p:cNvSpPr/>
          <p:nvPr/>
        </p:nvSpPr>
        <p:spPr>
          <a:xfrm>
            <a:off x="1523880" y="13150800"/>
            <a:ext cx="899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Gill Sans"/>
              </a:rPr>
              <a:t>Culture on the go 16 of 35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863640" y="4194000"/>
            <a:ext cx="16008480" cy="81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As in life, the (information) snack/bite  has replaced the three course meal (whole book/article/page)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Been conditioned by emailing, text messaging, tweeting and PowerPoint to like/produce/want/need fast information above all else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Same health problems – indigestion, over weight, unfit…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‘</a:t>
            </a: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Fast bag pick-up’ the gold standard [airport analogy]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Don’t come in the front door; deep dive courtesy of Google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Helvetica Neue"/>
              </a:rPr>
              <a:t>Web designers &amp; content providers thought we would dwell and knock on the front door. Do you remember site-stickiness? 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Avoid carefully-crafted discovery systems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0" name="Rectangle 10"/>
          <p:cNvSpPr/>
          <p:nvPr/>
        </p:nvSpPr>
        <p:spPr>
          <a:xfrm>
            <a:off x="33480" y="-1723320"/>
            <a:ext cx="97920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</a:rPr>
              <a:t>  </a:t>
            </a:r>
            <a:r>
              <a:rPr b="0" lang="en-US" sz="19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19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a. 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661" name="Picture 11" descr="http://www.obesitycures.com/images/fastfoodnation.jpg"/>
          <p:cNvPicPr/>
          <p:nvPr/>
        </p:nvPicPr>
        <p:blipFill>
          <a:blip r:embed="rId1"/>
          <a:stretch/>
        </p:blipFill>
        <p:spPr>
          <a:xfrm>
            <a:off x="17160840" y="4481640"/>
            <a:ext cx="5688000" cy="784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elvetica Neue"/>
              </a:rPr>
              <a:t>CAR PURCHASE COMPARI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523520" y="3720600"/>
            <a:ext cx="9703080" cy="861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-34920" y="0"/>
            <a:ext cx="24699960" cy="294480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Helvetica Neue"/>
              </a:rPr>
              <a:t>Viewing has replaced reading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5" name="Rectangle 4"/>
          <p:cNvSpPr/>
          <p:nvPr/>
        </p:nvSpPr>
        <p:spPr>
          <a:xfrm>
            <a:off x="1590840" y="876240"/>
            <a:ext cx="1318248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6" name="Rectangle 5"/>
          <p:cNvSpPr/>
          <p:nvPr/>
        </p:nvSpPr>
        <p:spPr>
          <a:xfrm>
            <a:off x="-977760" y="12928680"/>
            <a:ext cx="25399800" cy="85068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7" name="Rectangle 113"/>
          <p:cNvSpPr/>
          <p:nvPr/>
        </p:nvSpPr>
        <p:spPr>
          <a:xfrm>
            <a:off x="1523880" y="13150800"/>
            <a:ext cx="899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Gill Sans"/>
              </a:rPr>
              <a:t>Culture on the go 16 of 35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863640" y="3546360"/>
            <a:ext cx="15505200" cy="87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 marL="571680" indent="-5716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Helvetica Neue"/>
              </a:rPr>
              <a:t>No shock then nobody in this environment does much reading or certainly not what is traditionally thought to be reading (reflective or deep reading; the reading of whole documents)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Helvetica Neue"/>
              </a:rPr>
              <a:t>In fact: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1028880" indent="-5716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People seem to go online to avoid reading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1028880" indent="-5716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Typically, only a few minutes spent on a visit, and 15 minutes is a very long time;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1028880" indent="-5716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If it is an article then 3-4 minutes will be spent on it;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1028880" indent="-5716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Shorter articles have much bigger chance of being viewed; 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1028880" indent="-5716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Helvetica Neue"/>
                <a:ea typeface="ヒラギノ角ゴ ProN W3"/>
              </a:rPr>
              <a:t>If article long, summary will be read or will be downloaded  and squirreled away for another day (when it will not be read!).  ‘Digital osmosis’.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1028880" indent="-5716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9" name="Rectangle 10"/>
          <p:cNvSpPr/>
          <p:nvPr/>
        </p:nvSpPr>
        <p:spPr>
          <a:xfrm>
            <a:off x="13320" y="-245160"/>
            <a:ext cx="1279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670" name="Picture 5" descr=""/>
          <p:cNvPicPr/>
          <p:nvPr/>
        </p:nvPicPr>
        <p:blipFill>
          <a:blip r:embed="rId1"/>
          <a:stretch/>
        </p:blipFill>
        <p:spPr>
          <a:xfrm>
            <a:off x="16872120" y="4554360"/>
            <a:ext cx="5905440" cy="6913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elvetica Neue"/>
              </a:rPr>
              <a:t>CAR PURCHASE COMPARI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63640" y="3720600"/>
            <a:ext cx="14136480" cy="861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-34920" y="-119160"/>
            <a:ext cx="24699960" cy="294480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Helvetica Neue"/>
              </a:rPr>
              <a:t>Taking it to a new level: the Google Generation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1590840" y="876240"/>
            <a:ext cx="1318248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5" name="Rectangle 5"/>
          <p:cNvSpPr/>
          <p:nvPr/>
        </p:nvSpPr>
        <p:spPr>
          <a:xfrm>
            <a:off x="-977760" y="12928680"/>
            <a:ext cx="25399800" cy="85068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6" name="Rectangle 113"/>
          <p:cNvSpPr/>
          <p:nvPr/>
        </p:nvSpPr>
        <p:spPr>
          <a:xfrm>
            <a:off x="1523880" y="13150800"/>
            <a:ext cx="899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863640" y="3618000"/>
            <a:ext cx="16513200" cy="91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 marL="571680" indent="-5716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 Light"/>
              </a:rPr>
              <a:t>Where we came in, worries about what young (born digital) were up to, carrying that into adulthood. So how do they behave: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1200240" indent="-743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Have greatest appetite for fast information and skittering 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1200240" indent="-743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Quickest searchers, spend least amount of time on a visit – fraction of the time spent by adults. 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1200240" indent="-743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But least confident about their answers. Lack of confidence explained by their behaviour –  first one up, view fewer pages and domains, do fewer searches, don’t evaluate. First past the post approach endemic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1200240" indent="-743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Queries much closer textually to questions posed, making them, not just fast food generation, but also the `cut and paste’ generation. 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lvl="1" marL="1200240" indent="-7430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ica Neue Light"/>
                <a:ea typeface="ヒラギノ角ゴ ProN W3"/>
              </a:rPr>
              <a:t>Young fast forwarded from a world where focus was on knowing one big thing to a world where you know many things, but not very well. Web foxes!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8" name="Rectangle 10"/>
          <p:cNvSpPr/>
          <p:nvPr/>
        </p:nvSpPr>
        <p:spPr>
          <a:xfrm>
            <a:off x="6480" y="-1723320"/>
            <a:ext cx="109512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</a:rPr>
              <a:t>  </a:t>
            </a:r>
            <a:r>
              <a:rPr b="0" lang="en-US" sz="19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19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679" name="Picture 4" descr="cover"/>
          <p:cNvPicPr/>
          <p:nvPr/>
        </p:nvPicPr>
        <p:blipFill>
          <a:blip r:embed="rId1"/>
          <a:stretch/>
        </p:blipFill>
        <p:spPr>
          <a:xfrm>
            <a:off x="18024480" y="3257640"/>
            <a:ext cx="6048360" cy="950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elvetica Neue"/>
              </a:rPr>
              <a:t>CAR PURCHASE COMPARI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523520" y="3720600"/>
            <a:ext cx="9703080" cy="861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-34920" y="-119160"/>
            <a:ext cx="24699960" cy="294480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522360" y="876240"/>
            <a:ext cx="1425096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elvetica Neue"/>
              </a:rPr>
              <a:t>Taking it to a new level: smartphones  (and tablets) 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-977760" y="12928680"/>
            <a:ext cx="25399800" cy="85068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5" name="Rectangle 113"/>
          <p:cNvSpPr/>
          <p:nvPr/>
        </p:nvSpPr>
        <p:spPr>
          <a:xfrm>
            <a:off x="1523880" y="13150800"/>
            <a:ext cx="899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522360" y="3546360"/>
            <a:ext cx="13541400" cy="87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 marL="571680" indent="-5716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Taking ‘lite’ information seeking and reading behaviour to a new level: faster, more truncated/abbreviated, less appraised etc.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Away from the office, away from the desk; information on the go and in the social space (considered reading again is being challenged)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Ask a young person about the library and they will point to their phone. Ironically they are not allowed to use them in libraries!</a:t>
            </a:r>
            <a:endParaRPr b="0" lang="en-US" sz="3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7" name="Rectangle 10"/>
          <p:cNvSpPr/>
          <p:nvPr/>
        </p:nvSpPr>
        <p:spPr>
          <a:xfrm>
            <a:off x="33480" y="-2774520"/>
            <a:ext cx="9792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</a:rPr>
              <a:t>  </a:t>
            </a:r>
            <a:r>
              <a:rPr b="0" lang="en-US" sz="19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19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688" name="Picture 1" descr=""/>
          <p:cNvPicPr/>
          <p:nvPr/>
        </p:nvPicPr>
        <p:blipFill>
          <a:blip r:embed="rId1"/>
          <a:srcRect l="403" t="20718" r="403" b="20778"/>
          <a:stretch/>
        </p:blipFill>
        <p:spPr>
          <a:xfrm>
            <a:off x="15287760" y="3186000"/>
            <a:ext cx="8859600" cy="936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523520" y="469440"/>
            <a:ext cx="21336120" cy="195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elvetica Neue"/>
              </a:rPr>
              <a:t>CAR PURCHASE COMPARI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81760" y="3833280"/>
            <a:ext cx="9702720" cy="861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  <a:p>
            <a:pPr marL="380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-34920" y="-119160"/>
            <a:ext cx="24699960" cy="294480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elvetica Neue"/>
              </a:rPr>
              <a:t>Big issues and reflections</a:t>
            </a:r>
            <a:endParaRPr b="0" lang="en-US" sz="4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1590840" y="876240"/>
            <a:ext cx="1318248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3" name="Rectangle 5"/>
          <p:cNvSpPr/>
          <p:nvPr/>
        </p:nvSpPr>
        <p:spPr>
          <a:xfrm>
            <a:off x="-977760" y="12928680"/>
            <a:ext cx="25399800" cy="850680"/>
          </a:xfrm>
          <a:prstGeom prst="rect">
            <a:avLst/>
          </a:prstGeom>
          <a:solidFill>
            <a:srgbClr val="3548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4" name="Rectangle 113"/>
          <p:cNvSpPr/>
          <p:nvPr/>
        </p:nvSpPr>
        <p:spPr>
          <a:xfrm>
            <a:off x="1523880" y="13150800"/>
            <a:ext cx="899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863640" y="3544920"/>
            <a:ext cx="16944840" cy="9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 marL="571680" indent="-571680">
              <a:lnSpc>
                <a:spcPct val="90000"/>
              </a:lnSpc>
              <a:spcBef>
                <a:spcPts val="24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Helvetica Neue"/>
              </a:rPr>
              <a:t>Maybe McLuhan’s universe of linear exposition, quiet contemplation, disciplined reading and study was an ideal which we all bought into and developed services around. But…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90000"/>
              </a:lnSpc>
              <a:spcBef>
                <a:spcPts val="2401"/>
              </a:spcBef>
              <a:buClr>
                <a:srgbClr val="606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Helvetica Neue"/>
              </a:rPr>
              <a:t>Perhaps always wanted to skitter and power browse and did so when we could. Difference now is that opportunities for skittering (and distraction) legion and this creates more skittering; and pace not letting-up (twitter)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Helvetica Neue"/>
              </a:rPr>
              <a:t>In fact the brain gets </a:t>
            </a:r>
            <a:r>
              <a:rPr b="0" lang="en-GB" sz="3700" spc="-1" strike="noStrike">
                <a:solidFill>
                  <a:srgbClr val="000000"/>
                </a:solidFill>
                <a:latin typeface="Helvetica Neue"/>
              </a:rPr>
              <a:t>endorphin rush for </a:t>
            </a:r>
            <a:r>
              <a:rPr b="0" lang="en-GB" sz="3700" spc="-1" strike="noStrike">
                <a:solidFill>
                  <a:srgbClr val="000000"/>
                </a:solidFill>
                <a:latin typeface="Helvetica Neue"/>
              </a:rPr>
              <a:t>finding information. So digital skittering inevitably enjoyable  but chips away at capacity to concentrate, contemplate &amp; evaluate. Digital makes us stupid! 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Helvetica Neue"/>
              </a:rPr>
              <a:t>Neurologists say digital behaviour changing connections in brain – introducing new ones/dispensing with old ones; young brains rewire quickly and rewiring for speed not contemplation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Helvetica Neue"/>
              </a:rPr>
              <a:t>Also, as part of the rewiring the it of the brain that contains our memory is shrinking/losing capacity. Don’t bother to remember; web is our memory. </a:t>
            </a:r>
            <a:endParaRPr b="0" lang="en-US" sz="37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Rectangle 10"/>
          <p:cNvSpPr/>
          <p:nvPr/>
        </p:nvSpPr>
        <p:spPr>
          <a:xfrm>
            <a:off x="11160" y="-1723320"/>
            <a:ext cx="200952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</a:rPr>
              <a:t>  </a:t>
            </a:r>
            <a:r>
              <a:rPr b="0" lang="en-US" sz="19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19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56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697" name="Picture 4" descr=""/>
          <p:cNvPicPr/>
          <p:nvPr/>
        </p:nvPicPr>
        <p:blipFill>
          <a:blip r:embed="rId1"/>
          <a:stretch/>
        </p:blipFill>
        <p:spPr>
          <a:xfrm>
            <a:off x="18672120" y="3833640"/>
            <a:ext cx="5234040" cy="842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_Nicholas</dc:creator>
  <dc:description/>
  <dc:language>en-US</dc:language>
  <cp:lastModifiedBy>Nicholas</cp:lastModifiedBy>
  <dcterms:modified xsi:type="dcterms:W3CDTF">2012-09-13T07:09:42Z</dcterms:modified>
  <cp:revision>105</cp:revision>
  <dc:subject/>
  <dc:title>CAR PURCHASE COMPARI</dc:title>
</cp:coreProperties>
</file>